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A77-E862-4259-911C-1F485ECD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93D-428C-46FA-8E30-02ECDA62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BB4-7400-4E54-AD56-8AA37FCF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3BD-6EFC-489A-AFEF-FA188C32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C58-2371-40C9-BAF1-276FC59A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591-E506-4BC2-B9A6-C1E296DF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E7B-9FE3-4AA3-B799-099AAFEC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C4E-F722-4ACA-9508-E6D21089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5C4-6D82-46D2-BF0E-79F83AA6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C43-A488-4C9B-A273-7610A38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98E-DF83-4FB9-945E-6D7AB8E2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BDE-2898-4D87-A7D4-694A7CAD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B8F5-1F12-43F1-9D9C-258A793B5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eudal Pyramid"/>
          <p:cNvPicPr/>
          <p:nvPr/>
        </p:nvPicPr>
        <p:blipFill>
          <a:blip r:embed="rId1"/>
          <a:stretch/>
        </p:blipFill>
        <p:spPr>
          <a:xfrm>
            <a:off x="0" y="0"/>
            <a:ext cx="254628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3200400" y="0"/>
            <a:ext cx="4952880" cy="459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ringer 1/3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286000" y="609480"/>
            <a:ext cx="6858000" cy="580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 on a small sheet of paper (share with a neighbor).  Make sure to put your name in the upper right hand corn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2514600" y="1442880"/>
            <a:ext cx="662940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of the following is NOT a reason for the fall of the Roman Empire and the creation of feudalism in medieval Western Europ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asions of Germanic tribes traveling We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ucturing of the Roman seat of power to the Byzantine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entralization of power due to the collapse of Papal authority within the Vati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king raiders plundering coastal villages and manors looking for crops and livable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feudalis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ystem of landholding and governing during the Middle Ages of We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ocial structure created by the Roman Catholic Church to ensure the survival of the Holy Roman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ormation of towns and villages by medieval merchants looking to end serf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de explaining the duties of Christian knights and their L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2:25:51Z</dcterms:created>
  <dc:creator>System Administrator</dc:creator>
  <dc:description/>
  <dc:language>en-US</dc:language>
  <cp:lastModifiedBy>admin</cp:lastModifiedBy>
  <dcterms:modified xsi:type="dcterms:W3CDTF">2012-01-03T12:44:22Z</dcterms:modified>
  <cp:revision>1</cp:revision>
  <dc:subject/>
  <dc:title>PowerPoint Presentation</dc:title>
</cp:coreProperties>
</file>